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13B1-1538-43A4-BD4F-2A4D341D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CFD-AA18-493A-83CC-772C41D1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AE24E-67F1-4224-BF28-40334E19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C5CF5-BAEE-4EE5-96B8-5115DED8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6E591-376B-4D8F-9B7B-193C3C64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48B3D-CEBA-4023-9745-4BF2F4CC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DFA56-6F1E-47A6-9368-67569451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0B614-900A-4BE3-AB3E-774F49FC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E8FE8-F003-45D8-9831-824F47E5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18343-E642-4C77-8121-7E99B4B9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0B2B6-F867-4637-ACEE-B6EE0AFD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7DE51-BED6-4583-AC17-810BE9D7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39A-E610-4003-9DC9-617BE62D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085E4-BBF7-4330-B3DB-6A1FB241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27E8E-D74F-4B76-98D6-CA7DAD48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BB77F-36C1-44FE-95C1-CE30008B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9FEBD-B10C-44CF-8CCB-F7F24386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9D99D-AA85-4A6F-B55D-E179A53B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4232B-D214-4A16-B076-3A0F7F9E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9BC06-3FDD-4D6D-8636-F8B4F4D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3188F-2C88-4405-9A57-07CC1099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A2B3F-955E-4D07-9F97-77258024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A251D-A174-482C-B107-37812A8A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15C-7F58-4B8B-8E03-A9DDAF06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4D44B-FB3E-41BC-BA40-A2B2EB3E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32FCD-2B77-4E1C-A79B-7F1ED977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E1B0C-7142-4A1B-A840-D6ACFD31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6B086-FB6A-45D5-9451-08A87E1E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17D18-6E1C-468A-BADC-B0AEDBA9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B05CD-8AC2-4FA1-B814-D6D18E1C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CBEE0-6943-4276-A1D0-3FFBF096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2DEC9-C37E-43AA-A35A-66A109B2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F5645-C2DE-475F-9C43-F28E9185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3D99E-6897-441D-B05F-EA36B9B2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A2AF-C0C8-47E6-A702-30EE9BCB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80D14-7857-4C86-A325-E1E5D9F2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2B266-5C66-4B1E-B0FE-8F1856C8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F513D-7637-426A-B98D-4FC76D9D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A7604-CAFB-4CA5-84D7-F06A6114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D1FDC-923D-4217-913F-3B762A06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57372-D875-497F-B585-F20ABC4A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2C748-58A0-4931-AC2A-06718C55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FEE76-51D4-4B32-8E1E-7EE2B17B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D4F8E-7FEB-4292-8F30-4AE79438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3D38F-918F-4B3C-AD5D-0E241699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D6D4-410E-4C9F-948E-A108C70B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65763-A164-4138-BC76-755B038A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7AB3F-D150-4C9A-B7A9-0E166E13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EF3A4-26CA-477D-B7BC-7049F751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4DDE0-9A7E-4E9E-9530-37A73119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97AD4-4C01-42BB-9114-012208DC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9A3967-68A0-42D8-9332-9612F2C5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2AD18-DD1C-4994-9FB8-A4BCADB3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F7BA4-8D4F-4E71-AB57-FCB72F43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881EA-F441-4615-AD66-D8FA2361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67ABF-BFC3-4682-8E80-2E45469F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C2E9-8BCD-4E0F-AADC-83EDD0F6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7BEDD-F562-45FA-A81C-A3F2865A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983AD-1B69-4F1C-932A-88E4EB71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6C2C9-B0A0-4495-8535-85DEC483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7DBC6-7401-4936-AC60-D260921D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31681-7CBC-4DE3-96EA-8C9B1960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3FA97-1FC7-471A-93A9-9100E3C1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77205-18A5-4131-B696-FC13481E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8B98F1-585D-4AA8-B970-50A18EAD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51F36-823E-41B6-8F0A-4BE8DB27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43E58-5903-4499-9D26-301A52BE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CD9E-82EA-419A-A9D1-9E9493BA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01147-D5E6-462C-B5B6-83A2F217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5236E-5141-4E77-B63E-B7A70B08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3EF53B-58B9-4452-BA22-2E6F2435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1692A-0DAD-4A49-9621-4490C83D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EF7BF-9E51-4291-A1C3-8E8954C2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4FE18-7AB9-4FA7-9F61-D87819B4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BF9B2-A8D8-43D6-B874-3B7D5E01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BD5BD-23B3-47F8-82D5-F96B9559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5CD72-7610-4614-AC9E-E88FAED8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025A7E-6AB1-4D91-9D0E-4615071D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F0E7-326D-4844-8F63-B370AE9F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B8205-FE78-4675-B202-0861AF3F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FF421-5415-47A4-BDB0-C295A69C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D44B1-BCAF-4793-B3DB-5204BF6F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C5152-C6CD-4854-B8D9-0FC38D40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19C0CA-F9F2-4986-A4AC-75364ED5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5812B-D4FC-4455-B15B-8516C488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2C377-8ADB-4C6F-AC1F-F55E1068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AF028-C736-4A57-AE51-F2FA75D8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5FF40-5ECD-40B1-A026-E0060052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3D33A9-9F9B-4FAA-B42C-0D4138EF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A733-A08B-4376-BEB8-91D9668C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45C95-D597-40FD-BAEA-DB6F735D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6AE46-E2C4-4AA8-8B2D-4F11682F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8DFD36-4ACE-4544-962E-972AAF05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B82814-EA6E-4E14-B155-E77A2A73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F84AF5-1E3B-4234-9596-60E07CF2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E806D-C08F-4F88-ACFB-3E0C71C9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E1A6A-5BBF-41AE-97C3-9EEDE1BD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1A179-EA8A-4DBC-843D-E5C69BB4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74008-081E-4759-BB96-9ECBCFA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8DA78-0B16-4705-AEB6-EC05FDE2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9E87-4EFB-4046-843A-2D681AAD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86B4D-1667-41CF-8ABA-92BDB76F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D1D48-EC62-4219-9B86-D801A601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E7635-1876-43AC-BDA9-93603291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0C0ADB-67BC-4A82-AF75-70AC09E0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76F40-4B71-475E-905C-CD6DE421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FC053-FD8F-48D9-BEB0-177A86C7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E3808-DE1D-4E0A-BDED-1154D936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75157-798E-4B33-BFD4-FADF5760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5A5FF-D208-4B1D-B336-8C9560AB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720A47-0524-49D7-8765-DE8A6BDB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7F5-E305-406F-8E37-D7D072FF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852E-856D-499D-BED6-ACFD8CA5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D97E9-C873-4D58-81CD-E3929580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765B0-7B69-4346-84BC-28D7EF04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2F3056-F09F-4D92-8788-389BD116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52C0A-A5DF-4D69-BA49-F6E779E5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150EE5-A863-41A5-A178-271B256D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905EAA-D254-45F9-BEB2-0E07B306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63596-B5F1-48CA-ACE6-4E2D3923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0E485D-4EBF-40E5-BE39-9E6D6027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ED61AC-CDA2-4F3E-8EA0-E99873F7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DAC04A-F0BA-4876-B709-8B7D4423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3058-0B60-4C61-A439-AB933F67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00B16-2560-4D2E-ACD0-01F0EFC6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A39741-65C1-4349-BA4D-65C37581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9C9E2B-D5F9-4A35-B6F0-9D73F3B2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A8F076-3DD8-4D8C-93CD-A4B10727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5CDE5-B163-4A81-B144-8C421543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6E180-2E42-494D-B8D2-6DDC991A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8F2F0-B690-4C6B-B91C-CBCAA5F0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96EFF0-6A03-4284-B6CD-B8F39B62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0B7BE3-66C4-436C-906D-2799DD82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CD30A-1325-4A0F-9B12-7C0D4C17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C1DB-FB5D-4F68-9271-6CF326E6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23D9B0-06F4-49FF-B65B-EA0FB9AC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AD3D1-C5AC-4D76-8828-CE3B697C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CD65D-E45D-4E83-8F11-857729CC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8AA66-90A9-436B-931B-F75AEF58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1A862A-E76F-4AFA-9D96-B9BD3C76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A244A-41C6-496D-9310-5601A3F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B0662-A0CF-46FE-B918-05A20D91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E64C58-569E-4EA8-A5A1-B3D7A2EB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5A1CD-2A92-4B68-9854-8FE215FE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5CE8B1-B391-45D3-A47B-D67F16C6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E3AF-F270-48C9-A17A-0B6272E6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ADC66A-1573-45FF-97E5-D2916759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D155A4-EA9E-4DBB-9169-EF437ABA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6E4935-AD69-45F5-B6C1-93200AE7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D1339-5896-4B4E-9C14-1D063952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093C43-74C4-4A7C-8C68-7C51F507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A6382E-90BC-49AF-A378-6CBF73A5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585EA8-6C13-469C-A908-44E31086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5631F-8DA5-4E53-82D0-4C848E7D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40BD46-CE2E-4864-87A6-21E9A6B8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BF4831-3F65-4EB4-8DD2-FE77843B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0E5F-59CA-4E47-936B-6252E439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3FBB2C-EEB0-4545-9FCF-17717295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E5465-DBA9-47D7-A630-CEEEA095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8CBA22-CF9B-4640-B71C-13633604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DB0F72-A43D-464D-8774-986151B4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94BA29-D34B-4593-A8D3-2DDA3D41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77FB0F-379A-4F10-9309-D6FCD14C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D75394-A4DA-4EA3-8BFD-280804F4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707274-75E2-465D-933A-D26E5C16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0C1C0B-6AC3-495B-8F9F-46201EDB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B99439-CE24-432F-881D-5320F24B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B7533-80B0-4C0F-BDE6-E424C521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46E687-B780-4134-9C43-0F5CC54C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044C83-C012-43BB-B5C1-CEB8A241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D2D2FD-6FDF-4F65-B605-818B5826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5B6B6-BE13-4FD1-BBA5-D27F42AF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3EE5-336B-479A-81C3-8960C832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340D-7112-4301-A6A0-8BA958F7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A2BF-4649-41B5-8739-5F9EB62B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B61-7AD5-4734-9577-B9DF3E2D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870C-646B-4081-B2C9-5FE20BF0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84954-EFF5-4FB0-8673-8BDA15FD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A99C-F8E7-4103-940A-475179E9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34CD-9C6C-41DC-882B-EBB7B94C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9606-F6FB-467B-889C-2BC59960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6E18-4CBE-4744-8C58-9A92F9E7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1BDE3-17C6-4BCD-B70E-6272DAF2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2EB9A-2644-4640-9F60-E7B5ECE1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28635-A34A-422F-B7C7-BB1B04E9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C9E8-1F49-4309-87A6-84B3CEF8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A35-E123-4B2C-84D6-633878B3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2BAB-38D5-4B2C-9FD1-EA97DD73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4BDB8-D1F5-497A-82BC-CBFCEA69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C0435-6C1D-4947-BF8B-334FFE66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58F9-68B1-458C-9279-81B883FE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47E60-B037-4ADE-998F-88E3443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FEA8-35EA-40ED-B58C-AD5FEE67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ACE9-02F0-4301-8778-54CD43CD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2122B-02B3-4510-83E3-CC6D7287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273D2-BB15-44EB-9741-C73314B8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F60B5-393D-48C8-9C59-F41E0A2C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F60-C913-4247-837E-141B2AE5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28980-78B1-4B13-8264-258841DF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3F1EA-C0E9-41E2-9692-8364CF5B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F5B56-24E8-4B4E-9768-C65AA4CA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83635-7257-4B95-8AB2-23DF4190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4910-8A45-472B-AC9F-DD18DBDA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9A086-2B8E-4724-AAAD-FA7CEF8D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05C9B-30B1-4699-8D64-07B93388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DF247-6874-4AA5-ACB5-F02279A0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CC62C-C55E-4A05-89E1-14DB5565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0844-A432-4079-8FCE-6DE43C6D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826-D250-4BE9-A9EC-B679DC9A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C691E-52FA-4BD1-9875-98A53D30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B81DC-60F7-408F-B674-22E76156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264DB-10BD-4DC5-8C4F-5C843685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0638D-5710-434E-8CE4-07FEA6E5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474D6-31E5-459B-95A5-6819CEF1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F108D-DC1C-4FF8-A642-5EB5E07E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F8F1B-1C74-4452-B373-07F29A2F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AD4C9-31F6-450A-96BA-1ED092B2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85EB9-EDFE-4506-A0AE-D6C14E63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FCA64-E027-417C-AD71-EF0A885F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E12-D188-45F3-AC36-0FEF988C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6F961-CF79-4B6B-9A5A-67EBD8CC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663B4-5E97-4FF0-9B2D-0F4C99A4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91504-3365-4BB1-B299-9DABC1DA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91E89-95DD-4657-A36D-72A73CE5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7896F-2555-4AE7-9CFA-1BC9BD6B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6F418-235A-4B41-B55F-F8726B3F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004B0-A966-4A53-84AD-67CAB616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399D7-2154-4226-94A2-D3CD8B3A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E2C67-EFDD-4968-908C-D722EB5B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B0C64-F3B2-44F6-840A-36CE10CF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043-6359-4608-9F7D-54737AFF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B9BF7-84B2-4D63-B937-DDCD5CB1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9A4FD-9B97-4F48-9121-424F7797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1B121-C169-46D9-9963-650FCC55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08779-42A0-4457-9C73-DCAB8496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D022A-72C9-4C03-A9F7-7139F22D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8CD60-F3D2-404A-A26F-A4834D03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3537E-FCE0-4242-945B-AC046023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57F80-975A-4771-9F59-395C9332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BBD2C-98A0-42A6-B6A9-A6E9D16E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1A6F7-C5C0-4707-A80E-2D11FE93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326-D997-426E-8906-43AEF315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8412A-223B-4083-9D00-73E008EB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06C84-5FBB-4040-B4AC-EA2DA8E3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9EA72-FD25-46AA-A3F9-5E3C633B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CB202-2A62-40FD-A813-B705D8D3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08D1A-EB79-4F12-B05A-7A3BE8AD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7558E-0167-408D-B17F-82728B21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488A0-332C-415A-BA95-9A62DA40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DA8BA-C1D8-46BA-BA9A-D086BE8D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18145-5AC9-443D-94E3-028E0D54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4F2AF-495A-42B6-9132-2D70EC70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CDD7-C090-46E1-AA4F-6D2487A70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38E7-3549-4D8B-BBE9-F6365BB45D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59DC-FEDD-4D00-A023-8CD574E4E8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2C93-EDF6-4C2F-AA84-4ADD9351AC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4270-5077-4526-AA7F-96F2A686AA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8AE3-6EE4-41B5-8D89-4A9DDAC7B9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D957-FDA1-4A5A-B044-EF48008149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CDBF-3407-4DF0-AF93-512DBDFB10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B87F-879C-4225-84C9-751FA23081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B7CE-295E-4A0A-9E50-FF44C251EF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E9ED-CD3A-47FA-8848-A1BED0CE1B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9A08-34A7-4322-80EB-09298FC732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470E-2C10-4F68-B246-AAC25D2F1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424A-1238-4DFB-890E-0B8F807ABF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2EA2-61FB-41E1-B85C-0CCEAF2911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5A08-E523-4A46-AF79-AE591447B3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6D26-CF8B-4455-BBE2-9785F33597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34A3-CDE1-4A82-AC1E-AC2978EAFA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E7B9-12AD-4081-A6F3-BF5A8593A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5634-D072-4079-B5D5-F62A1D2CD0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1BFC-DF76-45E7-ACB0-3E26A833EB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1A37-C4AB-46D4-BDBE-348327BA9D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C21E-B964-4FF0-ABF9-AF92795285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F36E-6A59-4AA5-A935-15B290F815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86B9-536F-4C69-B5EC-ABECA7BF5F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2823-81A4-449E-A2C2-6F1A05ACC2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A084-C504-46A0-B5C0-9255CABAC1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3349-A8D2-4D23-99C9-6447EB097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E14C-2823-401C-9F3F-5261BABC96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EBFD-53B5-4B72-AED4-8CF5D00EE3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0A24-ED01-42D3-85C6-FF8CB5F811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D8CD-F44F-43B5-A827-86AAE468D2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B2E0-8BFC-43F6-81A4-6EBC16300E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72C6-0013-4013-8CFB-280B7FF0CF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A04C-5C78-45C9-8662-61B3750446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0708-18AA-41DC-B69F-21AF47951F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5442-6F28-4E05-ABF9-065EE3D8B3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90B4-28B4-4C98-B27D-4E5AF6F2D4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2F00-6DD4-4191-A47F-9CD69D3EFB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6419-A6D2-4C88-9311-2EE40BDACD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344520" y="2898720"/>
            <a:ext cx="6019920" cy="5716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6827760" y="2898720"/>
            <a:ext cx="20764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2"/>
          <a:stretch/>
        </p:blipFill>
        <p:spPr>
          <a:xfrm>
            <a:off x="166680" y="952560"/>
            <a:ext cx="8809200" cy="5170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071720" y="16002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187280" y="2133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187280" y="2708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187280" y="3284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1187280" y="44514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1116000" y="50418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9"/>
          <a:stretch/>
        </p:blipFill>
        <p:spPr>
          <a:xfrm>
            <a:off x="1144440" y="558972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19160" y="654120"/>
            <a:ext cx="8904240" cy="61992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116000" y="2421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116000" y="465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1116000" y="581976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47600" y="1023840"/>
            <a:ext cx="8847000" cy="57722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431640" cy="284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6357960" y="4883040"/>
            <a:ext cx="4316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18:20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